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2D9-3CFA-4BCF-A829-C75587D8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43F-EE02-487F-A78F-62299AA0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167-50CA-4DB3-A7B2-8A6733EE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174-40CE-4E31-A932-16F739FD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3424-0A46-4865-A41F-2CC5AC1C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3446-6832-4B8A-BFDC-D32CD523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94B4-8A48-409E-A83B-B81F88CD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D1A9-AEB5-4F52-A119-FE172296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9F85-98CD-4A46-A87A-CD32ECFB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7069-2C19-47BE-A914-0F7836DC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42B4-37E7-4334-AFA0-5BEFE700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6ED-D9AB-4B86-8C41-D9C3AE01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36A4-A9C9-43F4-BF3D-5558C445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3306-A070-4FF6-A888-EAB09EFF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3ABF-EFDF-4FB8-AD0A-83869493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C264-C570-459C-97C7-52BF7211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D1D6-8F52-44CF-9332-99E28717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721-1F30-4740-9609-9D4E07AE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A56-F605-4684-8517-31EBD248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6AA-AF19-4959-8A1E-6E87A354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D9E-5312-4E0B-8857-039BBFA0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5A3-4DFF-4082-B4B1-99977532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D63-9B63-4FBA-B7FC-934E96BE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452-AE40-4056-8347-44FAFBDF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6006-D693-4D8B-9E7E-F721A2FDF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5B21-CF8E-4305-907B-BF999B1DC214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ter and Wastewater in Ontario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hris Lyon, P.Eng., M.Eng.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irector Engineering Service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inley Group, Engineering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609480" y="3049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hemical Pollutants –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hich are the Riskiest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83808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illed Gasol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rbicid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sticid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ison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troge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reenhouse Gas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72428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Decomposes w O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Risky but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Risky but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Risky but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Risky.. Dilution on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1312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Greenhouse Gases?… </a:t>
            </a:r>
            <a:r>
              <a:rPr b="0" lang="en-US" sz="1600" spc="-1" strike="noStrike">
                <a:solidFill>
                  <a:srgbClr val="33cc33"/>
                </a:solidFill>
                <a:latin typeface="Tahoma"/>
              </a:rPr>
              <a:t>that’s another stor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1322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-barrier Approac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 it’s good enough for Canadian Roof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Picture 7" descr="http://rds.yahoo.com/_ylt=A0WTefYZ0_NMeloA9SqjzbkF/SIG=12kbdrf1n/EXP=1291134105/**http%3a/www.allco.co.nz/site/allconew/images/Casali/Dermabit1.jpg"/>
          <p:cNvPicPr/>
          <p:nvPr/>
        </p:nvPicPr>
        <p:blipFill>
          <a:blip r:embed="rId2"/>
          <a:srcRect l="0" t="12935" r="0" b="0"/>
          <a:stretch/>
        </p:blipFill>
        <p:spPr>
          <a:xfrm>
            <a:off x="179280" y="2205000"/>
            <a:ext cx="87202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inking Water Multi-Barri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tect and Test the water sour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st and Treat the Raw wa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ean and Disinfect the Wa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nitor / Alarm the Water 24/7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nitor / Alarm the Reservoirs 24/7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a redundant water piping sys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nitor water in the distribution sys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st all points every 24/7, daily &amp; week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stewater 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orking with nature to clean dirty water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eaning Waste Water... What’s the worst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op ‘n Pap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i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hemica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ap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ectici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troleu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sen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ones/Stic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44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1440" y="234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44" name="Group 22"/>
          <p:cNvGrpSpPr/>
          <p:nvPr/>
        </p:nvGrpSpPr>
        <p:grpSpPr>
          <a:xfrm>
            <a:off x="2278080" y="890640"/>
            <a:ext cx="4589280" cy="4711320"/>
            <a:chOff x="2278080" y="890640"/>
            <a:chExt cx="4589280" cy="4711320"/>
          </a:xfrm>
        </p:grpSpPr>
        <p:sp>
          <p:nvSpPr>
            <p:cNvPr id="245" name="Rectangle 19"/>
            <p:cNvSpPr/>
            <p:nvPr/>
          </p:nvSpPr>
          <p:spPr>
            <a:xfrm>
              <a:off x="2278080" y="89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6" name="Rectangle 20"/>
            <p:cNvSpPr/>
            <p:nvPr/>
          </p:nvSpPr>
          <p:spPr>
            <a:xfrm>
              <a:off x="2278080" y="916920"/>
              <a:ext cx="4589280" cy="46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40458c"/>
                  </a:solidFill>
                  <a:latin typeface="Arial"/>
                  <a:ea typeface="Arial"/>
                </a:rPr>
                <a:t>  </a:t>
              </a:r>
              <a:r>
                <a:rPr b="0" lang="en-US" sz="31800" spc="-1" strike="noStrike">
                  <a:solidFill>
                    <a:srgbClr val="40458c"/>
                  </a:solidFill>
                  <a:latin typeface="Arial"/>
                  <a:ea typeface="Arial"/>
                </a:rPr>
                <a:t> </a:t>
              </a:r>
              <a:r>
                <a:rPr b="0" lang="en-US" sz="1100" spc="-1" strike="noStrike">
                  <a:solidFill>
                    <a:srgbClr val="40458c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1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247" name="Picture 21" descr="sewage arrives"/>
          <p:cNvPicPr/>
          <p:nvPr/>
        </p:nvPicPr>
        <p:blipFill>
          <a:blip r:embed="rId9"/>
          <a:stretch/>
        </p:blipFill>
        <p:spPr>
          <a:xfrm>
            <a:off x="5410080" y="990720"/>
            <a:ext cx="34290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stewater Before and Af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9" name="Picture 5" descr="compare-sewage-in-out.jpg (32736 bytes)"/>
          <p:cNvPicPr/>
          <p:nvPr/>
        </p:nvPicPr>
        <p:blipFill>
          <a:blip r:embed="rId1"/>
          <a:stretch/>
        </p:blipFill>
        <p:spPr>
          <a:xfrm>
            <a:off x="2209680" y="1752480"/>
            <a:ext cx="5015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ompare-sewage-in-out.jpg (32736 bytes)"/>
          <p:cNvPicPr/>
          <p:nvPr/>
        </p:nvPicPr>
        <p:blipFill>
          <a:blip r:embed="rId1"/>
          <a:stretch/>
        </p:blipFill>
        <p:spPr>
          <a:xfrm>
            <a:off x="1066680" y="0"/>
            <a:ext cx="766620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eaning Wastewa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reening – tires, 2x4’s, nyl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rit Removal – more stones and sa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parating Solids from Liqui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tle Solids and send solids to ‘digest’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 bacteria to the remaining liquid and create a warm feeding and reproductive fren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tle out the fat bacteria families and send them to ‘digest’ (and create metha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eat and filter remaining bacter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urn clarified waste water to na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3" name="Picture 5" descr="Go to fullsize image"/>
          <p:cNvPicPr/>
          <p:nvPr/>
        </p:nvPicPr>
        <p:blipFill>
          <a:blip r:embed="rId5"/>
          <a:stretch/>
        </p:blipFill>
        <p:spPr>
          <a:xfrm>
            <a:off x="6477120" y="1905120"/>
            <a:ext cx="3657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opics in the New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happened in Walkerton, Ontari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Picture 5" descr="http://rds.yahoo.com/_ylt=A0WTefOF1fNMPmIAWTOjzbkF/SIG=11v02ur2g/EXP=1291134725/**http%3a/www.walkerton.org/wpd/images/map.jpg"/>
          <p:cNvPicPr/>
          <p:nvPr/>
        </p:nvPicPr>
        <p:blipFill>
          <a:blip r:embed="rId2"/>
          <a:stretch/>
        </p:blipFill>
        <p:spPr>
          <a:xfrm>
            <a:off x="2340000" y="2421000"/>
            <a:ext cx="38638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http://rds.yahoo.com/_ylt=A0WTefjn1fNM9mkAIJujzbkF/SIG=12n5nkosd/EXP=1291134823/**http%3a/www.ene.gov.on.ca/envision/techdocs/pdf_images/4000e01_5.gif"/>
          <p:cNvPicPr/>
          <p:nvPr/>
        </p:nvPicPr>
        <p:blipFill>
          <a:blip r:embed="rId1"/>
          <a:stretch/>
        </p:blipFill>
        <p:spPr>
          <a:xfrm>
            <a:off x="0" y="0"/>
            <a:ext cx="921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nicipal Water Syst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atershed Protection in Ont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OCC PS Proj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1" name="Picture 5" descr="Photo: Water faucet and glass of ice."/>
          <p:cNvPicPr/>
          <p:nvPr/>
        </p:nvPicPr>
        <p:blipFill>
          <a:blip r:embed="rId4"/>
          <a:stretch/>
        </p:blipFill>
        <p:spPr>
          <a:xfrm>
            <a:off x="5867280" y="457200"/>
            <a:ext cx="26146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://rds.yahoo.com/_ylt=A0WTefhU1vNMIWkAvuyjzbkF/SIG=12oih7db2/EXP=1291134932/**http%3a/wvlc.uwaterloo.ca/biology447/modules/module4/walk_geology.gif"/>
          <p:cNvPicPr/>
          <p:nvPr/>
        </p:nvPicPr>
        <p:blipFill>
          <a:blip r:embed="rId1"/>
          <a:stretch/>
        </p:blipFill>
        <p:spPr>
          <a:xfrm>
            <a:off x="-1801800" y="-458640"/>
            <a:ext cx="10945800" cy="102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lkerton – Who Messed Up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o was at fault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Justice O’Connor Called for change by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55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y the Province of Ont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y all Municipalities and Water Utilit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y the Supervisors / Operato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and he called for a multi-barrier approach with increased training, double checking and governance with professional and governmental oversight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her Issue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s Sewage in the Ottawa Rive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looded basements in Kanata? Orlean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re people bathing in sewage in Developing Countries? India? Haita – Cholera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s there a lack of Clean water in Canadian Aboriginal reserv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s drinking water safe when it’s from a school water fountai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nicipal Water In Ont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re does it come from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s it treate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s it teste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w much does it cost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s it saf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you drink it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ter Sour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roundwater (Springs, Wells, etc.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rface Water (Rivers, Lakes, etc.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cean Water (Desalination Plant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ain / Snow (Cistern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her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Picture 4" descr="Photo: Improper slab height of a water well could produce inadequate drainage, which could cause contamination of the water supply. Photo credit: Public Health Image Library"/>
          <p:cNvPicPr/>
          <p:nvPr/>
        </p:nvPicPr>
        <p:blipFill>
          <a:blip r:embed="rId6"/>
          <a:stretch/>
        </p:blipFill>
        <p:spPr>
          <a:xfrm>
            <a:off x="6095880" y="1981080"/>
            <a:ext cx="28861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s Drinking Water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reated?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/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sted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vate Wells… nop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vate Lakes/ Rivers… na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any Wells/Surface Water… na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nicipal Sources… y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ncial Sources… most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ederal Sources… sometim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80060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litt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litt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depen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big tim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st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metim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eatment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rface waters are cleaned, settled and pollish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lorine is added to municipal wat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zone and UV Rays are  used to neutralize bacteria in some cas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ee Chlorine must still be in municipal syste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2" name="Picture 6" descr="Photo: Water faucet and glass of ice."/>
          <p:cNvPicPr/>
          <p:nvPr/>
        </p:nvPicPr>
        <p:blipFill>
          <a:blip r:embed="rId5"/>
          <a:stretch/>
        </p:blipFill>
        <p:spPr>
          <a:xfrm>
            <a:off x="4875120" y="1905120"/>
            <a:ext cx="365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ving Organism Pollutants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 Drinking Water – Dange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iform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tting Plants / Soi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ecal Coliform E-Coli – Anima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sidic Protazo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ryptosporidium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iardia Lambl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KA - Beaver Fever / Montezuma’s Revenge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itle 1"/>
          <p:cNvSpPr/>
          <p:nvPr/>
        </p:nvSpPr>
        <p:spPr>
          <a:xfrm>
            <a:off x="53964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ving Organism Pollutants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 Drinking Water – Danger?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Text Placeholder 3"/>
          <p:cNvSpPr/>
          <p:nvPr/>
        </p:nvSpPr>
        <p:spPr>
          <a:xfrm>
            <a:off x="826920" y="204156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iform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tting Plants / Soi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ecal Coliform E-Coli – Anima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sidic Protazo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ryptosporidium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iardia Lambl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KA - Beaver Fever / Montezuma’s Revenge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Content Placeholder 4"/>
          <p:cNvSpPr/>
          <p:nvPr/>
        </p:nvSpPr>
        <p:spPr>
          <a:xfrm>
            <a:off x="4788000" y="204156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In substantial numbers may cause mild illness, severe illness or deat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Divide and Multiply’ and Make you sick for a few days or a few wee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hemical Pollutants –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hich are the Riskiest?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illed Gasol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rbicid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sticid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ison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troge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reenhouse Gas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20:22:48Z</dcterms:created>
  <dc:creator>clyon</dc:creator>
  <dc:description/>
  <dc:language>en-US</dc:language>
  <cp:lastModifiedBy>Customer</cp:lastModifiedBy>
  <dcterms:modified xsi:type="dcterms:W3CDTF">2010-11-29T17:31:02Z</dcterms:modified>
  <cp:revision>13</cp:revision>
  <dc:subject/>
  <dc:title>Water and Wastewater in Ontario  Chris Lyon, P.Eng., M.Eng.  Director Engineering Services Ainley Group, Engineering</dc:title>
</cp:coreProperties>
</file>